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BDB-6D2D-4917-AC58-D14537F9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0B5-E9ED-45B2-8CA9-041441AD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0BC-34A8-4781-B75D-E49D067A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220-8DCC-4038-936A-C15BA5A3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9A6F-DFD2-4FC4-B93C-E7AC0720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C854-AFBC-4664-A7F2-0D03CC03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F0D7-37A7-4FC3-9006-7F5802DD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3608-1D70-4031-91C8-0A7BCC9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9C03-AAB6-4B49-9B40-E5177D5C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0065-9BCE-479E-B868-0DAE757A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EAEA-62EF-4144-8DC6-B5471857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EF3-2C4A-4B4D-A891-A705C1E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1504-3E90-488F-93CD-24073035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EF70-4F6C-4464-8537-02CC9BA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5A60-2B7D-4CE6-BEF5-63B1EE81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27A8-CD3E-4C9A-A8C0-D2F85C25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2B0B-D979-4A1B-B37B-4B80A40E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D64-A42F-44F4-8EA4-28FB21BC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270-7E2E-40D4-94EA-7D6A3B99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042-5F7C-4509-AE15-72C4479E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3E9-5271-4EEC-BC70-C0C43EE4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AA2-825F-481C-9E62-821F04B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DC9-FB25-44CE-8F5A-059F7065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A4B-64FE-4FB4-9AD8-FCEA4A30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60F0-64E6-4D0F-95E9-C0F49FC7874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057400" y="6172200"/>
            <a:ext cx="406224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8AA5-6B9A-4EEF-864D-8F617C68AD0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248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1" lang="en-NZ" sz="4800" spc="-1" strike="noStrike">
                <a:solidFill>
                  <a:srgbClr val="003300"/>
                </a:solidFill>
                <a:latin typeface="Comic Sans MS"/>
              </a:rPr>
              <a:t>Me? Have a Website? </a:t>
            </a:r>
            <a:br>
              <a:rPr sz="4800"/>
            </a:br>
            <a:r>
              <a:rPr b="1" lang="en-NZ" sz="4800" spc="-1" strike="noStrike">
                <a:solidFill>
                  <a:srgbClr val="003300"/>
                </a:solidFill>
                <a:latin typeface="Comic Sans MS"/>
              </a:rPr>
              <a:t>Why?”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5715000" cy="1882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-360" y="5714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paul@notionz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09 845 0200      021 5500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57200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Comic Sans MS"/>
              </a:rPr>
              <a:t>Stand 303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Comic Sans MS"/>
              </a:rPr>
              <a:t>Paul Jer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Technolog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For the majority of business websites the technology is less important than th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124080"/>
            <a:ext cx="5105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A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ill a particular feature, effect, technology etc fulfill my site’s key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523880"/>
            <a:ext cx="7467840" cy="4038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Websites are about your business, </a:t>
            </a:r>
            <a:br>
              <a:rPr sz="3200"/>
            </a:b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NOT about comp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PJ’s thunk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tart simple – is the complex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e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use technology, special effects etc unless they are bene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assume the world will se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easure its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ke sure you get bang for bu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2004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’ll get my 14 year old nephew to d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Thanks PJ, but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’ll get the bloke down the pub/friend from the gym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8006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’ll do it my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648320"/>
            <a:ext cx="71629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aven’t you got better things to do with your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1629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will you do when he discovers gir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716292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tes rates comes with mates service - A website is too important for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705720" cy="1770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12156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Stand 3036</a:t>
            </a:r>
            <a:br>
              <a:rPr sz="4400"/>
            </a:b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Paul Jer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4648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paul@notionz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09 845 0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021 5500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1337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000" spc="-1" strike="noStrike">
                <a:solidFill>
                  <a:srgbClr val="000000"/>
                </a:solidFill>
                <a:latin typeface="Times New Roman"/>
              </a:rPr>
              <a:t>Thanks for you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ome good reasons why you should have a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Okay, I’m convinced - now what do I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J’s thunks about life, the universe and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3064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00"/>
                </a:solidFill>
                <a:latin typeface="Comic Sans MS"/>
              </a:rPr>
              <a:t>Me? Have a website? 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Gain New Custom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 brochure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Unlimited words, photos, specification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ompare to other advertising mediu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 shop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4-hours, rain or s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On-lin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t people get to know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istory, Events, Information on ke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ugsh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638680"/>
            <a:ext cx="7543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*For ‘customers’ read also members, sponsor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Keep Existing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rodu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ew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aintain contact with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ews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ips and Tr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ake customers feel special with a password protected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anks to spon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ithin the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les info for travelling r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fo for franch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eams/events/club in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ime s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s and 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Money s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tale pricelists, forms, broch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ve printing, storage costs, postage, phon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fo online rather than visit in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o needs a shop/off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’s exp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our (potential) customers exp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our competitors have/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’s an instant gratification world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lus 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ombination of all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240" y="2286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Now what do I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ho will use it?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y? How?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at does our audience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hat will our website look lik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’s an extension of your business and your pre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ictures speak louder than words – but b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lour, fonts, logos, “fee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2253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00"/>
                </a:solidFill>
                <a:latin typeface="Comic Sans MS"/>
              </a:rPr>
              <a:t>Okay, PJ, I have a friend who thinks she might need a website…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22080"/>
            <a:ext cx="784872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Getting (&amp; keeping) an audience</a:t>
            </a:r>
            <a:br>
              <a:rPr sz="3600"/>
            </a:br>
            <a:r>
              <a:rPr b="0" i="1" lang="en-NZ" sz="3200" spc="-1" strike="noStrike">
                <a:solidFill>
                  <a:srgbClr val="003300"/>
                </a:solidFill>
                <a:latin typeface="Comic Sans MS"/>
              </a:rPr>
              <a:t>A website is an on-going projec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w will people get to know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Give people a reason to keep coming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Keep it fresh and 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o is using it? Why? How do you know? Are they the right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Encourag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10:24:57Z</dcterms:created>
  <dc:creator>Administrator</dc:creator>
  <dc:description/>
  <dc:language>en-US</dc:language>
  <cp:lastModifiedBy>Paul Jerrom</cp:lastModifiedBy>
  <dcterms:modified xsi:type="dcterms:W3CDTF">2004-08-30T00:13:28Z</dcterms:modified>
  <cp:revision>28</cp:revision>
  <dc:subject/>
  <dc:title>PowerPoint Presentation</dc:title>
</cp:coreProperties>
</file>