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194-E843-4518-87E7-A7FDB8B4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4791-1651-4652-BD13-A05DE8BA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1D58-0340-4B85-AE93-B854EC05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2B36-E402-4762-A889-04A1036B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5B82-887C-45EA-A8E5-81820919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705B-B7EC-4A9A-84FF-D33F0ECD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8DD0-29FB-432A-A300-1DBE73ED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31F3-DD0C-4E23-ABC8-8A1DCF3A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316E-C6AF-4AC4-BD54-315B5721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08B4-AAFA-415C-86F3-6679A880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B573-D91E-475C-B509-563C8791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2EFD-5479-455E-970D-DD6CE4A8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93EB-A659-41AB-AEBA-D548B614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9252-FEB3-4C86-98BE-57066F74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0B2A-2844-49EA-BCD4-7CAEDD86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970D-275B-4CBB-964B-74EB8FD4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8F20-2064-4F7A-A184-F26CBBDB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5910-7186-4250-BFC9-A2152E93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117-D17D-4AF2-888B-F462241F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5E04-A65E-4391-A733-B6078BB4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0038-0926-409F-992F-65806EB6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5546-8E98-4989-AD34-8B6608FD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F17E-98C7-404A-A23B-9CEA90F9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2E7E-F69B-438A-AE12-23DE41BC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6CC2-CBE1-4AC1-B6A0-5561E2E3A407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057400" y="6172200"/>
            <a:ext cx="406224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83C5-5E9E-495F-B031-A3D25816237C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2485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3300"/>
                </a:solidFill>
                <a:latin typeface="Comic Sans MS"/>
              </a:rPr>
              <a:t>“</a:t>
            </a:r>
            <a:r>
              <a:rPr b="1" lang="en-NZ" sz="4800" spc="-1" strike="noStrike">
                <a:solidFill>
                  <a:srgbClr val="003300"/>
                </a:solidFill>
                <a:latin typeface="Comic Sans MS"/>
              </a:rPr>
              <a:t>Me? Have a Website? </a:t>
            </a:r>
            <a:br>
              <a:rPr sz="4800"/>
            </a:br>
            <a:r>
              <a:rPr b="1" lang="en-NZ" sz="4800" spc="-1" strike="noStrike">
                <a:solidFill>
                  <a:srgbClr val="003300"/>
                </a:solidFill>
                <a:latin typeface="Comic Sans MS"/>
              </a:rPr>
              <a:t>Why?”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5715000" cy="1882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-360" y="5714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paul@notionz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09 845 0200      021 5500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4572000"/>
            <a:ext cx="35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Comic Sans MS"/>
              </a:rPr>
              <a:t>Stand 303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Comic Sans MS"/>
              </a:rPr>
              <a:t>Paul Jer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Technology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934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For the majority of business websites the technology is less important than th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124080"/>
            <a:ext cx="51055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As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Will a particular feature, effect, technology etc fulfill my site’s key ob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523880"/>
            <a:ext cx="7467840" cy="4038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Websites are about your business, </a:t>
            </a:r>
            <a:br>
              <a:rPr sz="3200"/>
            </a:b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NOT about compu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PJ’s thunk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238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tart simple – is the complex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hange a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Don’t use technology, special effects etc unless they are benef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Don’t assume the world will se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Measure its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Make sure you get bang for bu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320040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’ll get my 14 year old nephew to do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Thanks PJ, but…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’ll get the bloke down the pub/friend from the gym to 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480060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’ll do it my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4648320"/>
            <a:ext cx="716292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Haven’t you got better things to do with your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200400"/>
            <a:ext cx="716292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will you do when he discovers gir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371600"/>
            <a:ext cx="7162920" cy="1556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Mates rates comes with mates service - A website is too important for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6705720" cy="1770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121560"/>
            <a:ext cx="6248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Stand 3036</a:t>
            </a:r>
            <a:br>
              <a:rPr sz="4400"/>
            </a:b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Paul Jer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09480" y="46483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paul@notionz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09 845 0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021 5500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21337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4000" spc="-1" strike="noStrike">
                <a:solidFill>
                  <a:srgbClr val="000000"/>
                </a:solidFill>
                <a:latin typeface="Times New Roman"/>
              </a:rPr>
              <a:t>Thanks for your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6324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Some good reasons why you should have a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Okay, I’m convinced - now what do I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J’s thunks about life, the universe and ever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30640"/>
            <a:ext cx="624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3300"/>
                </a:solidFill>
                <a:latin typeface="Comic Sans MS"/>
              </a:rPr>
              <a:t>Me? Have a website? 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Why have a website?</a:t>
            </a:r>
            <a:r>
              <a:rPr b="0" lang="en-NZ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Gain New Custom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 brochure on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Unlimited words, photos, specification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ompare to other advertising medium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 shop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24-hours, rain or s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On-line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Let people get to know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istory, Events, Information on key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ugsh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638680"/>
            <a:ext cx="7543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*For ‘customers’ read also members, sponsor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Why have a website?</a:t>
            </a:r>
            <a:r>
              <a:rPr b="0" lang="en-NZ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Keep Existing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Produ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New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Maintain contact with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News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ips and Tr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ake customers feel special with a password protected are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hanks to spons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Why have a website?</a:t>
            </a:r>
            <a:r>
              <a:rPr b="0" lang="en-NZ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Within the 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ales info for travelling r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fo for franch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eams/events/club inf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Why have a website?</a:t>
            </a:r>
            <a:r>
              <a:rPr b="0" lang="en-NZ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Time s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A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s and 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Money s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tale pricelists, forms, broch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ave printing, storage costs, postage, phone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fo online rather than visit in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ho needs a shop/offi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Why have a website?</a:t>
            </a:r>
            <a:r>
              <a:rPr b="0" lang="en-NZ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’s expec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Your (potential) customers expec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Your competitors have/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t’s an instant gratification world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lus mo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Combination of all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8240" y="22860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Now what do I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Who will use it?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hy? How?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hat does our audience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What will our website look lik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t’s an extension of your business and your prem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Pictures speak louder than words – but be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olour, fonts, logos, “feel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2253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3300"/>
                </a:solidFill>
                <a:latin typeface="Comic Sans MS"/>
              </a:rPr>
              <a:t>Okay, PJ, I have a friend who thinks she might need a website…</a:t>
            </a:r>
            <a:r>
              <a:rPr b="0" lang="en-NZ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622080"/>
            <a:ext cx="784872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3300"/>
                </a:solidFill>
                <a:latin typeface="Comic Sans MS"/>
              </a:rPr>
              <a:t>Getting (&amp; keeping) an audience</a:t>
            </a:r>
            <a:br>
              <a:rPr sz="3600"/>
            </a:br>
            <a:r>
              <a:rPr b="0" i="1" lang="en-NZ" sz="3200" spc="-1" strike="noStrike">
                <a:solidFill>
                  <a:srgbClr val="003300"/>
                </a:solidFill>
                <a:latin typeface="Comic Sans MS"/>
              </a:rPr>
              <a:t>A website is an on-going project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How will people get to know abou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Give people a reason to keep coming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Keep it fresh and 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o is using it? Why? How do you know? Are they the right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Encourag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10:24:57Z</dcterms:created>
  <dc:creator>Administrator</dc:creator>
  <dc:description/>
  <dc:language>en-US</dc:language>
  <cp:lastModifiedBy>Paul Jerrom</cp:lastModifiedBy>
  <dcterms:modified xsi:type="dcterms:W3CDTF">2004-08-30T00:13:28Z</dcterms:modified>
  <cp:revision>28</cp:revision>
  <dc:subject/>
  <dc:title>PowerPoint Presentation</dc:title>
</cp:coreProperties>
</file>