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F248-72D0-4AF6-8AC0-721FF9BFC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0CAE-5DBF-494C-A26D-850B070B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9A27-8057-45EE-A7AC-65D84BAE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33964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37472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56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33964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37472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38F8-EFE4-4394-A404-110617DD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0600-3199-41FF-AC68-6EC31138F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37FA-9C83-4AE2-BB75-7EFD21B7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858A-5185-4715-86E8-FF563F87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972D-EA43-499F-8635-250DB7E0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7277-2329-4D36-8EA0-DA09437F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1156320"/>
            <a:ext cx="624816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DDCF-310F-4948-B0F3-2C53D0EE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0EE4-4B31-4AE7-B730-A8E391DD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9A74-D470-4988-BC5F-9C01355E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80F6-61A1-43D8-A602-080A2B64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05C8-C331-4F87-BACE-1AC0F44E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A046-F3AA-4531-A880-3265BA60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494E-36C8-48EC-8CFD-E61E74BDB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33964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37472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56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33964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37472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0659-4005-49D6-B9F4-F8D49CF32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5C42-5AA3-48C3-8987-EF85FEFF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7E9E-09F2-4B6D-868F-685DA2CE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CF80-CFF2-4B07-869C-4EABE0DB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1156320"/>
            <a:ext cx="624816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92C5-FF85-40EC-B54C-E820C648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947F-DCA5-444B-A3AF-1F6E4239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0F48-D141-40FD-8583-5DB57072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3702-EF72-40E9-9CC7-DBA4E926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8662-CAEC-474A-A29E-01E7622EDAB8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2057400" y="6172200"/>
            <a:ext cx="406224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8CAC-3BEB-4800-8948-8ECA5FCF0E86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2485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3300"/>
                </a:solidFill>
                <a:latin typeface="Comic Sans MS"/>
              </a:rPr>
              <a:t>“</a:t>
            </a:r>
            <a:r>
              <a:rPr b="1" lang="en-NZ" sz="4800" spc="-1" strike="noStrike">
                <a:solidFill>
                  <a:srgbClr val="003300"/>
                </a:solidFill>
                <a:latin typeface="Comic Sans MS"/>
              </a:rPr>
              <a:t>Me? Have a Website? </a:t>
            </a:r>
            <a:br>
              <a:rPr sz="4800"/>
            </a:br>
            <a:r>
              <a:rPr b="1" lang="en-NZ" sz="4800" spc="-1" strike="noStrike">
                <a:solidFill>
                  <a:srgbClr val="003300"/>
                </a:solidFill>
                <a:latin typeface="Comic Sans MS"/>
              </a:rPr>
              <a:t>Why?”</a:t>
            </a: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5715000" cy="1882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-360" y="5714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paul@notionz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09 845 0200      021 5500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4572000"/>
            <a:ext cx="358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00"/>
                </a:solidFill>
                <a:latin typeface="Comic Sans MS"/>
              </a:rPr>
              <a:t>Stand 3036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00"/>
                </a:solidFill>
                <a:latin typeface="Comic Sans MS"/>
              </a:rPr>
              <a:t>Paul Jer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3300"/>
                </a:solidFill>
                <a:latin typeface="Comic Sans MS"/>
              </a:rPr>
              <a:t>Technology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6934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For the majority of business websites the technology is less important than the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124080"/>
            <a:ext cx="51055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As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Will a particular feature, effect, technology etc fulfill my site’s key objectiv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523880"/>
            <a:ext cx="7467840" cy="40381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Websites are about your business, </a:t>
            </a:r>
            <a:br>
              <a:rPr sz="3200"/>
            </a:b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NOT about compu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3300"/>
                </a:solidFill>
                <a:latin typeface="Comic Sans MS"/>
              </a:rPr>
              <a:t>PJ’s thunk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7238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Start simple – is the complex nee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Change a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Don’t use technology, special effects etc unless they are benef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Don’t assume the world will se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Measure its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Make sure you get bang for bu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3200400"/>
            <a:ext cx="7543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I’ll get my 14 year old nephew to do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4546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3300"/>
                </a:solidFill>
                <a:latin typeface="Comic Sans MS"/>
              </a:rPr>
              <a:t>Thanks PJ, but…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I’ll get the bloke down the pub/friend from the gym to d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4800600"/>
            <a:ext cx="7543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I’ll do it my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4648320"/>
            <a:ext cx="7162920" cy="1068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Haven’t you got better things to do with your ti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200400"/>
            <a:ext cx="7162920" cy="1068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at will you do when he discovers gir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371600"/>
            <a:ext cx="7162920" cy="1556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Mates rates comes with mates service - A website is too important for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6705720" cy="17701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3121560"/>
            <a:ext cx="62485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3300"/>
                </a:solidFill>
                <a:latin typeface="Comic Sans MS"/>
              </a:rPr>
              <a:t>Stand 3036</a:t>
            </a:r>
            <a:br>
              <a:rPr sz="4400"/>
            </a:br>
            <a:r>
              <a:rPr b="1" lang="en-NZ" sz="4400" spc="-1" strike="noStrike">
                <a:solidFill>
                  <a:srgbClr val="003300"/>
                </a:solidFill>
                <a:latin typeface="Comic Sans MS"/>
              </a:rPr>
              <a:t>Paul Jer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09480" y="464832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paul@notionz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09 845 0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021 5500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213372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4000" spc="-1" strike="noStrike">
                <a:solidFill>
                  <a:srgbClr val="000000"/>
                </a:solidFill>
                <a:latin typeface="Times New Roman"/>
              </a:rPr>
              <a:t>Thanks for your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6324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Some good reasons why you should have a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Okay, I’m convinced - now what do I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J’s thunks about life, the universe and every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530640"/>
            <a:ext cx="6248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3300"/>
                </a:solidFill>
                <a:latin typeface="Comic Sans MS"/>
              </a:rPr>
              <a:t>Me? Have a website? 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3300"/>
                </a:solidFill>
                <a:latin typeface="Comic Sans MS"/>
              </a:rPr>
              <a:t>Why have a website?</a:t>
            </a:r>
            <a:r>
              <a:rPr b="0" lang="en-NZ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Gain New Custom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 brochure on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Unlimited words, photos, specifications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Compare to other advertising medium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 shop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24-hours, rain or s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On-line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Let people get to know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History, Events, Information on key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1256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Mugsh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638680"/>
            <a:ext cx="7543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*For ‘customers’ read also members, sponsor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3300"/>
                </a:solidFill>
                <a:latin typeface="Comic Sans MS"/>
              </a:rPr>
              <a:t>Why have a website?</a:t>
            </a:r>
            <a:r>
              <a:rPr b="0" lang="en-NZ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Keep Existing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Produc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New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Maintain contact with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News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ips and Tri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Make customers feel special with a password protected are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hanks to spons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3300"/>
                </a:solidFill>
                <a:latin typeface="Comic Sans MS"/>
              </a:rPr>
              <a:t>Why have a website?</a:t>
            </a:r>
            <a:r>
              <a:rPr b="0" lang="en-NZ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Within the orga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ales info for travelling r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Man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nfo for franch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eams/events/club inf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3300"/>
                </a:solidFill>
                <a:latin typeface="Comic Sans MS"/>
              </a:rPr>
              <a:t>Why have a website?</a:t>
            </a:r>
            <a:r>
              <a:rPr b="0" lang="en-NZ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010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Time s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FAQ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s and 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Money s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tale pricelists, forms, broch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ave printing, storage costs, postage, phone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nfo online rather than visit in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ho needs a shop/offi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37836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3300"/>
                </a:solidFill>
                <a:latin typeface="Comic Sans MS"/>
              </a:rPr>
              <a:t>Why have a website?</a:t>
            </a:r>
            <a:r>
              <a:rPr b="0" lang="en-NZ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010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’s expec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Your (potential) customers expec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Your competitors have/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t’s an instant gratification world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lus mo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Combination of all th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8240" y="22860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Now what do I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Who will use it?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hy? How?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hat does our audience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What will our website look lik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t’s an extension of your business and your prem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Pictures speak louder than words – but be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olour, fonts, logos, “feel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0" y="2253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3300"/>
                </a:solidFill>
                <a:latin typeface="Comic Sans MS"/>
              </a:rPr>
              <a:t>Okay, PJ, I have a friend who thinks she might need a website…</a:t>
            </a:r>
            <a:r>
              <a:rPr b="0" lang="en-NZ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622080"/>
            <a:ext cx="784872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3300"/>
                </a:solidFill>
                <a:latin typeface="Comic Sans MS"/>
              </a:rPr>
              <a:t>Getting (&amp; keeping) an audience</a:t>
            </a:r>
            <a:br>
              <a:rPr sz="3600"/>
            </a:br>
            <a:r>
              <a:rPr b="0" i="1" lang="en-NZ" sz="3200" spc="-1" strike="noStrike">
                <a:solidFill>
                  <a:srgbClr val="003300"/>
                </a:solidFill>
                <a:latin typeface="Comic Sans MS"/>
              </a:rPr>
              <a:t>A website is an on-going project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How will people get to know abou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Give people a reason to keep coming 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Keep it fresh and 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o is using it? Why? How do you know? Are they the right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Encourage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5T10:24:57Z</dcterms:created>
  <dc:creator>Administrator</dc:creator>
  <dc:description/>
  <dc:language>en-US</dc:language>
  <cp:lastModifiedBy>Paul Jerrom</cp:lastModifiedBy>
  <dcterms:modified xsi:type="dcterms:W3CDTF">2004-08-30T00:13:28Z</dcterms:modified>
  <cp:revision>28</cp:revision>
  <dc:subject/>
  <dc:title>PowerPoint Presentation</dc:title>
</cp:coreProperties>
</file>